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5857-25A8-4D76-8D4F-AA7053F0D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C3FC-36CA-4FB3-B467-715C05AE4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0B4B-7738-4163-8E6A-6BDD99737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48F6-F89A-453A-97F2-EAE721459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1CFB-6E9B-4655-A037-9021F9516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65A4-795C-4B5B-AA11-9F7BCE488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8885-C2FC-4511-B637-80D87995A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7320-7743-4781-9467-5F2B40B98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165A-A74B-4F86-8EB7-1888BB11B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8608-11C5-4C15-8DF8-66C505F68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5951-8DE8-43A8-A212-2E25A8BA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3A3B-B7D7-4CD9-B753-49500651D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19D-195B-452B-8C59-3FBF6582A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5036-1443-4D2B-A2EB-EC19F5B924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6B52-9C56-4FB5-B283-A8CD63DB5B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8008-15FF-473E-A360-1FD6D6EED0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B791-9495-4A4D-BCD6-93B32E65CD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E0C0-AF08-4B2D-BD2D-A05E1E34B9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9569-5626-44FC-889B-BD5EC9C157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8710-D7F4-4118-BACA-BC18B1474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3A09-FD60-4768-9606-C6AEE72153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EBCB-48F2-4606-9ED6-689952CE50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5956-048E-418B-B600-3EBF9966E9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9665-3851-4826-B3B7-A451F6D684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B23E-3089-4EAF-BF54-16D882FCC8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67195-35AC-4384-A952-D5EBF0861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9F788-841D-48C0-9B45-23BE2CEB66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14275-0B29-4FFB-B575-67A5876F595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A384A-1C87-437C-BE69-D6EDC402D73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A4376-2AB2-4271-BC13-B16D7FECB2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57EED-AACF-4777-9128-E85FB7D55B5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EB218-B2D3-416F-8A7D-D91AE4D9279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B4CD6-4244-4A0F-BD5B-11DC2842DD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7F7D9-5D3A-4019-B273-BEDB8461A49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435DE-1E12-4A65-BC73-E6F127DCC5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96046-AD42-4AF0-830D-4FFC098F1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FDCCA-B6E0-4B1F-A38B-2DA563C572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34902-85BE-475F-A337-98B3467CDB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68403-4913-42C1-9CAC-CEF9D8592C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6F8CA-3C87-47E5-AD61-557AD104CD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A3EC9-0E88-437A-A66E-B24CD29710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FA37D-FD1C-4EF6-B7A9-6F32B962E0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6FBB7-A231-4D31-A432-68944DAF20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953F4-853A-4747-86BD-D0CA889C7B7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7A7DF-FDF1-4982-95F2-9F2ED3FC4DE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E7B86-8C51-4A02-8BE9-C7F1CEEE1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B0336-1A74-48BB-8267-10897A5443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7C6EF-484A-4A1D-9ECF-D729B11EEA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745DF-01E1-49EA-A508-E24231D3F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5D5F5472-554A-4328-AC27-A67D0573D892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FB5BDBB-EC5F-4B02-B640-534944B3AC38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3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7F6C4E8-4B78-48DA-B289-9BAB17BB9391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new layout art3.png"/>
          <p:cNvPicPr/>
          <p:nvPr/>
        </p:nvPicPr>
        <p:blipFill>
          <a:blip r:embed="rId3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BD1369F-ECC1-4AE9-865B-C15F5CF94C3B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6539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D53ABD6-F663-4E9E-ADA0-9661C3EB9D06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: Applying Computer Basics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23191"/>
                </a:solidFill>
                <a:latin typeface="Arial"/>
              </a:rPr>
              <a:t>5 Steps of Information Processing</a:t>
            </a:r>
            <a:endParaRPr b="0" lang="en-US" sz="39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281" name="Content Placeholder 4" descr="ScreenShot013.png"/>
          <p:cNvPicPr/>
          <p:nvPr/>
        </p:nvPicPr>
        <p:blipFill>
          <a:blip r:embed="rId1"/>
          <a:stretch/>
        </p:blipFill>
        <p:spPr>
          <a:xfrm>
            <a:off x="2058840" y="1600200"/>
            <a:ext cx="5559480" cy="4525920"/>
          </a:xfrm>
          <a:prstGeom prst="rect">
            <a:avLst/>
          </a:prstGeom>
          <a:ln w="0">
            <a:noFill/>
          </a:ln>
        </p:spPr>
      </p:pic>
      <p:sp>
        <p:nvSpPr>
          <p:cNvPr id="282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0282E3A7-CA80-44ED-85A4-A565A698C6B8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formation Process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19120" y="1514520"/>
            <a:ext cx="8167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utting 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chscreen, keyboard, electronic pen, speech headset, scanner, camer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ing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or manipulating data using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umbers, sort lists, alter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etting dat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r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 text message, print report, view photos on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C7EB0E3-35DB-4B66-B8A0-51B5DA3CB015}" type="slidenum">
              <a:rPr b="1" lang="en-US" sz="12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formation Process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on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information with people who wa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a blog, build website, use phone to send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ag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aving data for late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hard drive (C:\\), flash drive, Internet, Network (Z:\\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network is Leaddog. You save to your folder on the network (Your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7E19BC9-0C24-4597-BBF3-41DC4FB5947B}" type="slidenum">
              <a:rPr b="1" lang="en-US" sz="12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pplying Computer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5720" y="1495440"/>
            <a:ext cx="78897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 machine that follows a set of instructions and makes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our world be like without compu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 can:  guide telescopes, control lighting, air conditioning, security systems, make calls, store phone numbers, sent text messages, share music &amp; video, play games, run programs, animate mov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140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1 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B8B2934-AA6E-41BD-931A-8CA6444AF03F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izing up Hardwa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34880" y="1509480"/>
            <a:ext cx="8361360" cy="49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 parts you can touch with y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processo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small circuit board inside a computer that controls all the work a computer does (digi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o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st important parts! Brains of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processors that calculate with 0s &amp; 1s called binary cod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1011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3765F4CD-26D0-418A-97DE-4B2FC26020F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23191"/>
                </a:solidFill>
                <a:latin typeface="Arial"/>
                <a:ea typeface="Arial"/>
              </a:rPr>
              <a:t>DigiTools</a:t>
            </a:r>
            <a:endParaRPr b="0" lang="en-US" sz="36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rt for "digital communication tools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uters of all types are called DigiTo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1422360" y="252360"/>
            <a:ext cx="6561000" cy="4492800"/>
          </a:xfrm>
          <a:prstGeom prst="rect">
            <a:avLst/>
          </a:prstGeom>
          <a:ln w="0">
            <a:noFill/>
          </a:ln>
        </p:spPr>
      </p:pic>
      <p:sp>
        <p:nvSpPr>
          <p:cNvPr id="263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21390B78-C9F4-47FC-8892-D8D20E8812E0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ersonal Comput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265" name="Content Placeholder 6" descr="ScreenShot011.png"/>
          <p:cNvPicPr/>
          <p:nvPr/>
        </p:nvPicPr>
        <p:blipFill>
          <a:blip r:embed="rId1"/>
          <a:stretch/>
        </p:blipFill>
        <p:spPr>
          <a:xfrm>
            <a:off x="1320840" y="3825720"/>
            <a:ext cx="6676920" cy="2535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928800" y="1498680"/>
            <a:ext cx="7758000" cy="31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Computer (PC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signed for individual use – multimedia desktop, laptop, tab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cessing Unit – micro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B5671C06-ACC6-4C3D-8DA7-5178C1A9F227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eripheral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phera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vices that work with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ers, digital tablets, scanners, and headsets (speech recog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&amp; Peripherals are digital communication tools – DigiToo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digital devices, electronic devices, and consumer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0F439CA-9B90-4F99-B18D-F73EA61BF0F0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28800" y="276120"/>
            <a:ext cx="7696080" cy="10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3200" y="1712880"/>
            <a:ext cx="833148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computers need to work properly. Three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 (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communication with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interaction with u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Windows Vista, Windows X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BAA99513-B552-4534-B91B-13F4CB6CEB83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continu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complete a specific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installed on a local computer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, Excel,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lets you complete specific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ver the Internet inside a web brows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ogle ga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7BABEAED-89CB-43E2-85A2-CB172A4ED61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formation Process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Processing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with computers using a 5-ste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data into forms we can use &amp;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ords, pictures,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1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6B806C9-2788-4473-9924-E8939464CCCB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9:37:58Z</dcterms:created>
  <dc:creator>Jean Bissell</dc:creator>
  <dc:description>Copyright 2006 South-Western/Thomson</dc:description>
  <dc:language>en-US</dc:language>
  <cp:lastModifiedBy>Lenessa Keehn</cp:lastModifiedBy>
  <dcterms:modified xsi:type="dcterms:W3CDTF">2011-02-24T05:34:31Z</dcterms:modified>
  <cp:revision>73</cp:revision>
  <dc:subject/>
  <dc:title>Slide 1</dc:title>
</cp:coreProperties>
</file>